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60-D0A0-4389-B782-C12628A2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D1B-3A73-4742-838C-A1A080B0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C0C-4D3F-498A-A08B-624DDB43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F8D-E92B-4DFF-8509-67A54AEC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350-ED43-455E-99F5-48D8001E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DC9-4054-430B-B7DB-9770EA6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A289-8DD0-47B4-9C0C-68AEB8C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6A9B-78EE-4534-B628-BA2C128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4F8F-A3D5-4E14-A7F3-330051F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EAC-D129-4F0A-8960-4C5D0530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9A5-D2E9-42B0-B1BA-77D93F3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8AB-ADA6-4407-A9FB-B81F17B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53A-484F-4F90-8F22-A96EBA9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0500-3EE3-4EEF-9927-31E2FD2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37D3-58D5-4CE9-AB6C-CFA356A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407-C150-4AE4-92CB-9114F1B8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EED4-EDE1-46B3-A1E3-3CC58086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810-EB33-4471-B051-38401A8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A91-FAB8-446D-AC58-93B9B4B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563-2087-45FE-A4D5-25FAFA4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7D2-57BA-4D57-97C8-1F1E54A0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AEF-8060-4756-9B79-8A8E38F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CF-542C-4C1B-B9E3-4F9F7F90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63E-05D2-4BD1-908F-CBF25D6B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421-7DFA-4F54-8497-50919847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DAD-77D1-4489-AC7B-5BB3E888DAE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езентация на тему: Городецкая роспись. Птица – символ света, счастья и добра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357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удентка 642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врамова Ан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3a7a"/>
                </a:solidFill>
                <a:latin typeface="Tahoma"/>
              </a:rPr>
              <a:t>Анализ образц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Объект 5" descr=""/>
          <p:cNvPicPr/>
          <p:nvPr/>
        </p:nvPicPr>
        <p:blipFill>
          <a:blip r:embed="rId1"/>
          <a:srcRect l="3222" t="12280" r="6549" b="6843"/>
          <a:stretch/>
        </p:blipFill>
        <p:spPr>
          <a:xfrm>
            <a:off x="1187280" y="1628640"/>
            <a:ext cx="749016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Рисовать будем поэтапно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Объект 5" descr="D:\УЧЕБА\поберезкая\Новая папка\bonus1_713.jpg"/>
          <p:cNvPicPr/>
          <p:nvPr/>
        </p:nvPicPr>
        <p:blipFill>
          <a:blip r:embed="rId1"/>
          <a:srcRect l="7139" t="13522" r="26276" b="50644"/>
          <a:stretch/>
        </p:blipFill>
        <p:spPr>
          <a:xfrm>
            <a:off x="971640" y="1557360"/>
            <a:ext cx="74898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Далее мы будем делать так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Рисунок 11" descr="D:\УЧЕБА\поберезкая\Новая папка\bonus1_713.jpg"/>
          <p:cNvPicPr/>
          <p:nvPr/>
        </p:nvPicPr>
        <p:blipFill>
          <a:blip r:embed="rId1"/>
          <a:srcRect l="7875" t="49163" r="49926" b="7373"/>
          <a:stretch/>
        </p:blipFill>
        <p:spPr>
          <a:xfrm>
            <a:off x="3924360" y="1844640"/>
            <a:ext cx="4753080" cy="4808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D:\УЧЕБА\поберезкая\Новая папка\bonus1_713.jpg"/>
          <p:cNvPicPr/>
          <p:nvPr/>
        </p:nvPicPr>
        <p:blipFill>
          <a:blip r:embed="rId2"/>
          <a:srcRect l="71492" t="14005" r="7311" b="47682"/>
          <a:stretch/>
        </p:blipFill>
        <p:spPr>
          <a:xfrm>
            <a:off x="324000" y="1844640"/>
            <a:ext cx="3528720" cy="48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 завершаем работ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Объект 4" descr="D:\УЧЕБА\поберезкая\Новая папка\bonus1_713.jpg"/>
          <p:cNvPicPr/>
          <p:nvPr/>
        </p:nvPicPr>
        <p:blipFill>
          <a:blip r:embed="rId1"/>
          <a:srcRect l="48234" t="49903" r="6379" b="7630"/>
          <a:stretch/>
        </p:blipFill>
        <p:spPr>
          <a:xfrm>
            <a:off x="1116000" y="198900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50920" y="6093000"/>
            <a:ext cx="720720" cy="620640"/>
          </a:xfrm>
          <a:custGeom>
            <a:avLst/>
            <a:gdLst>
              <a:gd name="textAreaLeft" fmla="*/ 0 w 720720"/>
              <a:gd name="textAreaRight" fmla="*/ 721080 w 72072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цениваем работы по следующим критериям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исунок должен быть ярки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ильно выполненны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ресны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Спасибо за работу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Городецкая роспись.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тица – символ света, счастья и добр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лан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иды городецкой роспи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Виды композ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Анализ рабо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Оценивание рабо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тиц изображают в различных варианта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вый вариант: гордый павли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43368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торой вариант: насупленный индюк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тий вариант: задиристый петух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орао"/>
          <p:cNvPicPr/>
          <p:nvPr/>
        </p:nvPicPr>
        <p:blipFill>
          <a:blip r:embed="rId1"/>
          <a:stretch/>
        </p:blipFill>
        <p:spPr>
          <a:xfrm>
            <a:off x="2620800" y="1700280"/>
            <a:ext cx="332424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26920" y="6093000"/>
            <a:ext cx="865440" cy="504720"/>
          </a:xfrm>
          <a:custGeom>
            <a:avLst/>
            <a:gdLst>
              <a:gd name="textAreaLeft" fmla="*/ 0 w 865440"/>
              <a:gd name="textAreaRight" fmla="*/ 865800 w 865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Существуют три вида композиции в городецкой роспис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цветочная роспись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F:\i.jpg"/>
          <p:cNvPicPr/>
          <p:nvPr/>
        </p:nvPicPr>
        <p:blipFill>
          <a:blip r:embed="rId1"/>
          <a:stretch/>
        </p:blipFill>
        <p:spPr>
          <a:xfrm>
            <a:off x="3203640" y="2565360"/>
            <a:ext cx="3564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2.Цветочная роспись с включением мотив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«конь» и «птица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F:\i (1).jpg"/>
          <p:cNvPicPr/>
          <p:nvPr/>
        </p:nvPicPr>
        <p:blipFill>
          <a:blip r:embed="rId1"/>
          <a:stretch/>
        </p:blipFill>
        <p:spPr>
          <a:xfrm>
            <a:off x="468360" y="2492280"/>
            <a:ext cx="3803760" cy="410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i (2).jpg"/>
          <p:cNvPicPr/>
          <p:nvPr/>
        </p:nvPicPr>
        <p:blipFill>
          <a:blip r:embed="rId2"/>
          <a:stretch/>
        </p:blipFill>
        <p:spPr>
          <a:xfrm>
            <a:off x="5148360" y="2492280"/>
            <a:ext cx="3529080" cy="40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сюжетная роспись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F:\000006.jpg"/>
          <p:cNvPicPr/>
          <p:nvPr/>
        </p:nvPicPr>
        <p:blipFill>
          <a:blip r:embed="rId1"/>
          <a:stretch/>
        </p:blipFill>
        <p:spPr>
          <a:xfrm>
            <a:off x="2700360" y="1700280"/>
            <a:ext cx="4321080" cy="494496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55640" y="5950080"/>
            <a:ext cx="792000" cy="647640"/>
          </a:xfrm>
          <a:custGeom>
            <a:avLst/>
            <a:gdLst>
              <a:gd name="textAreaLeft" fmla="*/ 0 w 792000"/>
              <a:gd name="textAreaRight" fmla="*/ 792360 w 79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5:29:00Z</dcterms:created>
  <dc:creator>студент</dc:creator>
  <dc:description/>
  <dc:language>en-US</dc:language>
  <cp:lastModifiedBy>студент</cp:lastModifiedBy>
  <dcterms:modified xsi:type="dcterms:W3CDTF">2011-06-15T13:27:46Z</dcterms:modified>
  <cp:revision>7</cp:revision>
  <dc:subject/>
  <dc:title>Городецкая роспись.</dc:title>
</cp:coreProperties>
</file>